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D7A-5081-41C5-AE7B-BAF37C69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5CE-DF9D-4A7E-B235-9FA03A08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469-35FE-40D8-96BC-29D46B2C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C90-4487-4112-971D-63903A2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6592-C529-4804-AB2C-1E7EBE5E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F203-A37B-4E13-8DA4-9FF0470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C5F3-6BFB-4317-96D9-A9F1EAD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8A6C-72CE-4580-90B6-52669ABA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354B-C998-458F-BBDD-3C0420F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456B-34E8-4EC8-ABB9-192DBFC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018-A7CB-4A6A-82BD-32362D1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955-85C5-4C24-83AB-0D90202D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542F-608E-47D7-99D4-21DC2F4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4A73-C1B0-4233-9955-53C7A95A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918-8A4C-447F-9EDC-DB3F1DC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3F22-2211-4BBE-B799-43831290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8E53-4046-4CB5-907F-F6B28F27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F129-F92F-4433-88A8-0546D76F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09AA-9FF3-4EDE-B8E5-F0D856F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65F1-31E4-48A3-965B-D0F0616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809D-4E7A-4DC7-85E0-2C9D8579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F995-7F56-455B-9AA2-9527E13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CA6-9335-4C5B-A0C1-3118E33A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88BD-DE00-4ED7-B5C7-1C93A7AC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C32F-99AA-4999-9338-E7DB2D3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A331-985A-4FB9-AA80-02FEB18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C244-2325-44BC-8992-3E3F073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9669-2078-49A0-84E2-C5E05A63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E0B7-FD4E-4B1E-95DE-1A47F1E0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F840-470F-460B-9A5F-891F8467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07758-7693-42C7-B560-787B7538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0AD1-62E9-4093-825A-5215EB86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CE882-3746-46B7-9F8B-1A6FF6C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1F4-BBC1-4444-8505-DCCD5509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A967-C49D-4FCD-BEEA-53C78A4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0C0D5-F717-4F13-9325-531BDD2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AAFD-C05F-4D37-8233-B33AB14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7B9C-6D47-4E2D-B11F-644AA12C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212D-43AB-40A0-A2D0-8F3BAAB9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3A54-522F-4197-8BBB-722983E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0D2C-6964-4229-8124-D954D457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6FF77-DB47-4660-B44C-5B8BBB59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B6C0-4A5C-4FDA-A841-011085FB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1C33-A150-46C6-99CE-8F3D7539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7FA-4981-40A4-8222-22ED955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15A2-79D3-4DAA-A349-AA5F5322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C6DB-8093-46B6-9B3B-268AC242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77C2-4387-45AA-B133-4485D8B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CC5EA-348A-4115-AAF2-6DEAAA5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7ED7-8154-4566-94C4-BA2D5879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FA07-D5A9-42AC-9214-EB5CB82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6752-07C5-45F7-AB8E-C464063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D096-3C58-465F-878F-5C6701D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494D1-4891-4A7D-B6FF-25D15B78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C59B6-B31A-41F2-BA91-91DD0F14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7A9-F3EE-448D-8A81-B79CB70E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AFE21-D7FC-423B-8B68-8E0703F0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2CB4-6462-446B-A9C0-68F13E3D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D706-89FA-4E60-B1E9-1166F99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EF85-4508-45CD-9C56-F66476CE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C08F-2C64-4491-BA2D-5BCD316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D39B5-BFA5-4639-BD14-C4A4B85C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12D5-6044-44FA-AA55-5159627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B293-2196-4D72-B494-7972BF2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385C-ECA2-461E-9631-0E55A3D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2ADD-3717-4E49-B8DD-BED6D68C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59B-8A12-4332-B785-B3AE099C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AE17-F910-4E26-B939-B624F666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A5D0-DE9E-4998-B0B6-A37C3AF8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3898-8C77-4A36-B0B9-2C91B71B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150F-E017-4FFE-B11F-FAEEA65B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E6B54-DD0A-4C4A-AE59-A671753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0B43-3FFA-46CF-BF68-CB19377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D64B-5822-45E2-942F-90D0D948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30DEF-A344-4213-8A28-9C7DE93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FB30-8CBB-4CA7-9264-BE8CAAD6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A3B8-1D02-4D4E-8E2E-C1B595C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4BD-2860-414B-B9D3-281590B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FF1D-E055-413C-B641-A8FE9EC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2BFB-2DAB-4BD5-BB54-81E9154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7546-3D33-468C-8ABD-C5081EB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861FD-A8AC-4DCF-BA71-B718EC19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71DF-7022-4743-AED2-D193788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1F8-B5DC-4C10-A0E3-E8AB8F8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B9E3-52D4-4105-9FDA-C77DA61DE05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248C-89DC-4193-BEA7-D593E621CDF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9E2-49C4-4420-8BDE-64F82A679C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7720-A496-456B-83DE-7965E4AB097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2EA-C612-48F1-AE75-8C6B4467C0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74A-1DA5-457D-80E6-B4F15A7DB5A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BDC0-1057-4133-AD8F-0BE59C44931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inking about your ballo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did you have to think about as you tried to measure the “lift” of the balloon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How much mass did your balloon lift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were the three most important sources of error in your attempt to determine the balloon’s lift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y did we have to use helium-filled balloons for this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y does a helium-filled balloon lift things but not a balloon you blow up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is the best way to determine how much can be lifted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do you think would happen if you measured the “lift” of your balloon today? Would it be the same as it was last week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king and Re-ask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ving from open-ended to closed-ended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might happen if we cover the candle flame with the jar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o you think the flame would go ou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king a slightly different question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makes the leaf look gree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does the leaf do to the other colors of ligh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 couple more poi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low “wait time”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t the premise when necessary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iven what you’ve learned from this activity, compare the flexibility of wood strips to met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uide to Scientific Question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f you are a curious person you should always have questions about things. Some questions are good scientific questions and some are not good scientific question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 the question is,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"What is a good scientific question?"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. A good scientific question is one that can have an answer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Why is there air?" is not as good a question as "What is the air made of?"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A good scientific question can be tested by some experiment or measurement that you can do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"Where did the Universe come from?" is not as good a scientific question as "How fast does a football fly through the air when I throw it?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A good scientific question builds on what you already kno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"What chemicals are needed to make radishes grow?" is not as good a question as "What is the source of genetic mutations in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drosophila melanogaste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?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 A good scientific question, when answered, leads to other good quest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"What is the color of the sky?" does not lead to as many other questions as "What events or conditions cause the sky to be blue (or orange or brown)?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ok at the items and ask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 a list of ques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clude five open-ended ques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clude five closed-ended questions (that require some use of science processe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clude 5 questions that are NOT good ques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The case of good questions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osed end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ave one correct answ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ill this kind of mineral scratch glass…(Yes/No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kind of mineral is this…(single answer/name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are the attributes of quartz…(definition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may have a role in inquiry when they are used to focus the use of science processes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most often a problem when they require knowledge that does not come from direct observations or other science processes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pen end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ow more than one respon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ow can we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might happen if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en would you see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refore…they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ncourage communic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mote greater though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vide opportunities for negotiation and collabo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040" y="1784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y question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is the sky blu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did the bridge fall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do leopards have spot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questions invite metaphysical (supernatural) response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cause God made it that way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was payback for building it in the first place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et me tell you a story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y questions…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040" y="1784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y questio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y is the sky blu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y did the bridge fall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y do leopards have spots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et more specific and/or focus on physical causes…and lose the “why”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makes the sky appear to be blu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does the air affect sunlight so the sky looks blu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did the forces acting on the bridge cause the collaps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is the advantage to leopards of having spots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king questions using terms to be taught in the lesson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do we mean by “positive” charg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is the difference between longitude and latitud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ow can we identify different kinds of molecul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are the characteristics of a mammal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do you think…” questions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o you think might cause the sky to be blue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o you think is the advantage to leopards of having spots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o you think would happen if the battery were connected to the bulb in a closed circuit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id you think about as you tried to predict tonight’s moon phase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f you were going to determine if the rate of swing of a pendulum were affected by mass, how would you do it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o you know what makes it possible for water to run uphill in a pipe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the “best” is the enemy of the “very good”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would be the best way to find the volume of the block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is the best way to find out what phase the moon was in last nigh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is the most important reason for using monofilament line when building a pendulum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4:57:12Z</dcterms:created>
  <dc:creator>Information  Technology</dc:creator>
  <dc:description/>
  <dc:language>en-US</dc:language>
  <cp:lastModifiedBy>Information  Technology</cp:lastModifiedBy>
  <dcterms:modified xsi:type="dcterms:W3CDTF">2010-11-08T17:28:16Z</dcterms:modified>
  <cp:revision>12</cp:revision>
  <dc:subject/>
  <dc:title>Open and Closed</dc:title>
</cp:coreProperties>
</file>